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48CC-F3EF-4066-B1C7-B54BA4F05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5892-7D55-47D4-A1B7-BB3D5B5BC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2F28-AB65-4654-BD3C-2F9D383D6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8953-271E-4DD4-8A6C-1B8C2CE9B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EF389-34E9-43FC-9E94-A1A5CB763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1BB90-4556-4903-86B4-E424B0EF9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BF500-0E43-42F2-BD4F-C7CC49026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36A5B-46E3-424D-AA8E-EEA3A1B80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92321-50DE-4B2E-910D-D170AF1BF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1E7C0-0817-4FCB-AAA2-E84DDDACA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427D9-4564-4B7A-825F-11B324D5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459F-B142-457B-A2EB-9EAAE8D83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CFF33-385A-4FEC-9FFA-2B207A34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95BE0-B2D3-4CB8-A2D8-FA70BD16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ABFDD-6380-4D63-91F6-61F757776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CB939-C8B5-48A0-845C-3674F6EA0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314E4-5625-482A-900D-744F47D0D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F3F7-C3E3-4C66-9A49-66B5ACB56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1DB1-0908-412B-B580-5C1029B22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52F7-DEB2-4FFD-B00F-E82C5DE3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177D-1E74-487A-8629-1CF318B50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21AC-3EE4-449E-AD4B-7F4810D1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B224-25DA-406F-9979-1F425BFF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B4F6-4372-462A-8AB4-CEF8DC05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5ACD0-24B9-4946-869F-0062F4E5E66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DBEA7-3427-4EC7-9EF7-E4B81EACC8D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第十章  国际资本流动与国际金融市场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International capital flow &amp; International financial marke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Arial"/>
              </a:rPr>
              <a:t>第三节  离岸金融市场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一、离岸金融市场的概念与类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概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类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二、离岸金融市场的形成与发展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三、离岸金融市场的特点和金融工具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离岸金融市场的特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离岸金融市场的金融工具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存款工具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贷款方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四、离岸金融市场对世界经济的影响及发展趋势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离岸金融市场对世界经济的影响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离岸金融市场发展趋势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第一节  国际资本流动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一、国际资本流动的含义与类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一）国际资本流动的含义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含义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考察国际资本流动可以从五个方面入手：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从资本流动方向来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从资本流动规模来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从资本流动的类型来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从资本流动性质来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从资本流动方式来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（二）国际资本流动的类型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长期资本流动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）直接投资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）间接投资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）国际借贷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短期资本流动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）贸易资金流动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）银行资金流动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）保值性资本流动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）投机性资本流动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二、国际资本流动理论 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一）关于国际资本流动原因的理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完全竞争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产品生命周期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际生产的内在化理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际生产的折中理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5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垄断优势理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二）关于国际资本流动的效果与影响的理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一般理论模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双缺口理论模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雷布金斯基原理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第二节  国际金融市场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一、国际金融市场概述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一）国际金融市场概念与类型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国际金融市场概念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国际金融市场类型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传统的国际金融市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新型的国际金融市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二）国际金融市场形成的条件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国际金融市场所在地必须有较为稳定的经济和政治环境；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国际金融市场需要有宽松的金融政策与优惠措施；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国际金融市场需要有完善的金融市场结构；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国际金融市场需要具备良好的地理条件、拥有完善的国际通讯设施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三）国际金融市场的形成与发展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伦敦金融市场的形成与衰落；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纽约金融市场兴起；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离岸金融市场的形成与发展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Arial"/>
              </a:rPr>
              <a:t>二、货币市场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一）定义：期限在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年以内的短期资金借贷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二）货币市场的分类（按照资金融通形式）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银行短期信贷市场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短期证券市场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国库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可转让银行定期存单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银行承兑汇票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商业票据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贴现市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三、资本市场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一）定义：期限为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年以上的长期资金市场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二）资本市场分类（按照贷款方式的不同）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银行中长期贷款市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中期贷款：国际惯例为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-5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年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长期贷款：国际惯例为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年以上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中长期贷款运作方式（见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130-131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证券市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政府债券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企业证券（公司债券、公司股票）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四、外汇市场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一）外汇市场综述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外汇市场定义： 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广义的外汇市场；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狭义的外汇市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外汇市场的形式（从交易情况划分）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无固定交易场所的外汇市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有固定交易场所的外汇市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二）外汇市场的组成机构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外汇银行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外汇经纪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中央银行等政府管汇机构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其他，如跨国公司、投机商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三）世界主要外汇市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伦敦外汇市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纽约外汇市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苏黎世外汇市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五、黄金市场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一）黄金市场简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五大黄金交易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黄金市场种类：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按照交割期限划分：现货交易市场和期货交易市场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按照管制程度划分：自由交易市场和限制交易市场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二）黄金市场的结构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三）黄金市场的交易方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现货交易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期货交易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四）世界主要黄金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伦敦，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苏黎世，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香港，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新加坡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4T02:50:17Z</dcterms:created>
  <dc:creator>MS User</dc:creator>
  <dc:description/>
  <dc:language>en-US</dc:language>
  <cp:lastModifiedBy>Dell</cp:lastModifiedBy>
  <dcterms:modified xsi:type="dcterms:W3CDTF">2021-08-23T22:46:23Z</dcterms:modified>
  <cp:revision>17</cp:revision>
  <dc:subject/>
  <dc:title>第四章  国际资本流动与国际金融市场</dc:title>
</cp:coreProperties>
</file>